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D40-88E4-49D0-BB7F-F9AA5540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418-DD83-46A2-8D6B-BF839DD6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F5E5-5A80-4573-9215-31161CE5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934-E582-49E3-8FD3-E939209F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91EF-AD3C-4D0C-AB1C-96CA5238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3709-CF38-4181-945B-E01911BA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8165-A071-44D6-B0DB-7796C91E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4F01-D5E9-4A3C-A7F4-79787A3C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72DA-48BE-4A37-BF50-6E16B177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1261-0B74-4745-B8A8-4858A90C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FABB-DB24-4298-86FD-3672DDA8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83F1-39C8-4510-8980-28CAF2AA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7D74-C0C2-43D3-9E7C-EE6AEF39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5D4B-54E7-47D8-8174-CFF79932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83D1-4B95-4676-8D3F-17DFDA5D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3087-AE8E-401C-BEBA-703015F7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4B27-6019-4425-8AF1-13A57EA2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8408-7912-4DFD-8042-7E1B4F0D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BC2-51E6-4EFD-815A-718D4EBD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3322-D093-4A0C-AA40-866B88C0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A2F4-AAD3-48BC-9BA5-89FE8F36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EFA-46B3-43E0-B332-0662D7CF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E67B-03DD-42CD-B219-6D1DC929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DC9D-624F-437D-BC1C-4EBCD929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64C6-372A-4366-BFE2-660724CA4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904B-5468-4E05-931B-7C65602AA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fzibran@ucalgary.ca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PSC 203 Tutori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ction: T2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days and Wednesd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:00 PM – 12:50 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om: MS 236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aching Assista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.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ahi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Zibr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hD student, Dept. of Computer Sc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mfzibran@ucalgary.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: www.ucalgary.ca/~mfzibr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T Hour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ednesday, 4:00 PM- 6:0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oom: MS 23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ortant Dates 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 Lab Quizz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eb: MS Excel Spreadshe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rch: MS Access Data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rch: Problem Sol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pril: Design Skil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 Take Home Assign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ment 1: Out: Jan 21 2009, Due: Feb 23 2009, 11:59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ment 2: Out: Mar 09 2009, Due: April 03 2009, 11:59P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 Term Project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done in the wik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: Mar 09 2009, Oral Presentation: April 06 2009 to April 16 2009, Wiki Part Due: April 17 2009, 11:59P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ortant Link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Wik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470160">
              <a:spcBef>
                <a:spcPts val="499"/>
              </a:spcBef>
              <a:buClr>
                <a:srgbClr val="cc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iki.ucalgary.ca/page/Courses/Computer_Science/CPSC_203/CPSC_203_Templ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utorial-22 TA wik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iki.ucalgary.ca/page/Courses/Computer_Science/CPSC_203/CPSC_203_Template/CPSC203_Template_People/Fahim_Zibr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3:47:13Z</dcterms:created>
  <dc:creator>Fahim</dc:creator>
  <dc:description/>
  <dc:language>en-US</dc:language>
  <cp:lastModifiedBy>Information Technologies</cp:lastModifiedBy>
  <dcterms:modified xsi:type="dcterms:W3CDTF">2009-01-19T19:14:10Z</dcterms:modified>
  <cp:revision>19</cp:revision>
  <dc:subject/>
  <dc:title>CPSC 203 Tutorial Section: T32</dc:title>
</cp:coreProperties>
</file>